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1982E-61FD-427F-A3CE-99428779CD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27CC2-3B40-43C2-9B71-552A64E7323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7FCA2-C786-472A-920D-E7522670F2D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99B92-1052-483C-B1FB-A5213AA4B89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3589B-44DB-4A5C-B3A5-E98B3ED4E53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2E725-29B3-42ED-8DC7-D9DAE955B93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ED00E-C152-44E7-B513-ACD58AA1A2A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63526-9885-4FB7-8FA6-1E2D5FDB6B0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AD1E5-D6FD-4873-80E6-1A9BE84C179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3603D-7355-412C-9DD6-C1E0094766D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05E29-D766-4D98-9F2C-BB57B4DF5B6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86B0C-C80E-492C-8699-F61852A9D97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E0AF8-73F5-41BF-97EB-741F62E8B1C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CA1B1-E19F-4842-90C3-C92FD586338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3571C-80FC-47D2-A96C-51D6D5DB333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BCE1C-C5D5-432C-B49F-6C61E8CF58B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9D363-BCEB-40D8-BE3D-BC3BE15B0C6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976E5-E5C5-4F56-A300-9CE13351902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F144B-2E6B-422D-8248-CCFDD4D73E1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CD4CD-4B64-4217-98AD-69ADD45ED47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765E9-0FC2-41A3-B566-44B1018BF57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D1B8B-F1F8-497C-8B23-23F5A9D041E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8983F-28F2-416C-9DB9-9E040B06F03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DAAFF-D97A-4F82-A189-60F0BC74280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9A642-B862-4D8E-8D47-6E39064760D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9B8F-1981-49B0-B3C2-73F48A08B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4A53-C5EF-4C68-A075-A0A6F58BD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4569-260E-40C1-B360-D4B2D1F27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018B-4E72-422D-A3D8-0A81FD279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2D4765-79CC-445D-A6DC-86A64CBFD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0CE7A5-CE29-4B90-9E73-C22570852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6BCFCF-DBBE-4969-B412-C0565254A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F1DEE4-1656-4E9E-9EFF-D591F9E7B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E3327F-8E9A-41AE-9805-AA070A840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2760C3-10E6-4951-883B-DF403BC5D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4BB724-20F1-45E3-963F-FAF0D279B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8EB8-6ACF-4D97-813C-224256AF2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989E0E-D941-4D72-969A-59D2B2700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ED53D9-87C1-4FD2-AAE8-5B3E084AE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4656CE-928F-4E18-871C-417032E47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CBA211-54F6-44A7-848B-83822EC74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AA4AA3-981A-40FB-BD1C-38DFE3AA6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6308-ABF1-4CB3-BA53-8EC48F3E4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FAA7-9DAC-4799-9D4C-F565FE816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EB06-8DC3-443D-A0EE-FC8167D07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D639-DBE6-41F9-B73E-FF6AAEE99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3D18-3A8B-4671-AD92-3A83C5980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F085-FF57-46DA-9920-776E0E6E5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96E6-128B-4453-A79D-D310BB585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>
                <a:gd name="textAreaLeft" fmla="*/ 0 w 5143320"/>
                <a:gd name="textAreaRight" fmla="*/ 5143680 w 51433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>
                  <a:gd name="textAreaLeft" fmla="*/ 0 w 1581120"/>
                  <a:gd name="textAreaRight" fmla="*/ 1581480 w 1581120"/>
                  <a:gd name="textAreaTop" fmla="*/ 0 h 846000"/>
                  <a:gd name="textAreaBottom" fmla="*/ 846360 h 846000"/>
                </a:gdLst>
                <a:ahLst/>
                <a:rect l="textAreaLeft" t="textAreaTop" r="textAreaRight" b="textAreaBottom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>
                  <a:gd name="textAreaLeft" fmla="*/ 0 w 600120"/>
                  <a:gd name="textAreaRight" fmla="*/ 600480 w 60012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>
                  <a:gd name="textAreaLeft" fmla="*/ 0 w 246240"/>
                  <a:gd name="textAreaRight" fmla="*/ 246240 w 2462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>
                <a:gd name="textAreaLeft" fmla="*/ 0 w 6311880"/>
                <a:gd name="textAreaRight" fmla="*/ 6312240 w 631188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54767-3C1E-4F2F-A13C-545CC4E4B4D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5888C-E8BF-439D-B4DD-C06A6C02F19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acponline.org/journals/annals/15feb97/melanoma.gif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arpansa.gov.au/images/nir/spectrum.gif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hapter 26:  Ozone Depletion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-360" y="1828440"/>
            <a:ext cx="24382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se Stud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pidemic Skin Canc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5" descr="melanom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397240" y="1981080"/>
            <a:ext cx="651816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Anthropogenic Ozone Destruction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860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nlight can break and release Cl and then it may rebind again, over and o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Catalytic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he lag effec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FCs are verrrrrrrry stable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are no tropospheric sin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nlight does not break it here! (transparen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in doesn’t phase it! (insolubl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xidation can’t touch it! (non-reactiv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here is ozone being lost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ver the Antarctic (big time!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ver the Arctic, but less s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ver northern hemisp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ver southern hemisp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here is there the most ozone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t is made over the equator due to high intensity sunligh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et it is thinnest there and thickest at the po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mmmmmmmmmmm…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Antarctic Ozone Hol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ccurs during the spring in polar stratospheric clou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nges from 15 – 80 % loss (over 80% depleted for 8 weeks in 1995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ea of depletion is spreading out (from a million sq. miles in 1970 to 22 million sq. miles toda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lar winter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ir looses heat and sin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dark 6 months ,so no incoming radiation to add new he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ir is isolated from global circulation and circulates around po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is called the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polar vortex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Winter stratospheric clouds are essential for ozone destruction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 temps. slowly drop, sulfuric acid freez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eds nitric acid to form around frozen parti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lled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Type 1 stratospheric clou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 temp rapidly drops further water condenses around Type 1 particles making them lar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are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Type 2 stratospheric clou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w you can see them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th both cloud types, N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 tied up as nitric acid, freezes ou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se particles grow large enough to fall out of atm, removing most N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x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om clou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N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x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 no chlorine (chlorine nitrate) sink in springtime!!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Antarctic spring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nlight retur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eaks apart CFCs, freeing chlor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N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 clouds so no chlorine sin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s free to destroy ozone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Picture 5" descr="a07"/>
          <p:cNvPicPr/>
          <p:nvPr/>
        </p:nvPicPr>
        <p:blipFill>
          <a:blip r:embed="rId1"/>
          <a:stretch/>
        </p:blipFill>
        <p:spPr>
          <a:xfrm>
            <a:off x="4572000" y="1447920"/>
            <a:ext cx="1752480" cy="3581280"/>
          </a:xfrm>
          <a:prstGeom prst="rect">
            <a:avLst/>
          </a:prstGeom>
          <a:ln w="0">
            <a:noFill/>
          </a:ln>
        </p:spPr>
      </p:pic>
      <p:sp>
        <p:nvSpPr>
          <p:cNvPr id="175" name="AutoShape 7"/>
          <p:cNvSpPr/>
          <p:nvPr/>
        </p:nvSpPr>
        <p:spPr>
          <a:xfrm>
            <a:off x="6248520" y="2514600"/>
            <a:ext cx="2895480" cy="1371600"/>
          </a:xfrm>
          <a:prstGeom prst="wedgeEllipseCallout">
            <a:avLst>
              <a:gd name="adj1" fmla="val -59541"/>
              <a:gd name="adj2" fmla="val -52199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 Box 8"/>
          <p:cNvSpPr/>
          <p:nvPr/>
        </p:nvSpPr>
        <p:spPr>
          <a:xfrm>
            <a:off x="6994440" y="2859120"/>
            <a:ext cx="174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’s spring!!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UV Radiati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3" name="Picture 6" descr="spectrum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1676520"/>
            <a:ext cx="8381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 Need super cold isolated air vortex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polar winte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 Need PSCs (ozone destroying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ction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ppen on their surfac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 NOx freeze and drop ou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  On the surfaces, inactive Cl and Br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lexes convert into highly activ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.  When sunlight returns in spring ozon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ss is very rapi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3e3ff"/>
                </a:solidFill>
                <a:uFillTx/>
                <a:latin typeface="Arial"/>
              </a:rPr>
              <a:t>Future of Ozone Depleti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llions of metric tons of CFCs are in lower atm n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y take as much as 50 years or so to get to stratosp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last 75 - 140 yea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it will probably get worse before it gets better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e3e3ff"/>
                </a:solidFill>
                <a:uFillTx/>
                <a:latin typeface="Arial"/>
              </a:rPr>
              <a:t>Ozone Depletion: Effects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ssible reduction in phytoplankt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y effect oceanic food ch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ss fish for human consump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y also increase global warming (phytoplankton are an important 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ink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lobal warming may affect our food crops negativel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alth eff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rease in skin canc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mage ey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aken  immune system which may have a multitude of effe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Managemen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ntreal Protocol in 198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46 countries have sign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gree to reduce CFC 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industrial ones stopped by 199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adline for developing countries is 200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ina and India chose not to particip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-2286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Substitut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F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CF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pane (cheap but potentially explosive?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85 billion dollar cost to replace old refrigerating equipment that cannot use alternative chemic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ther Ideas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UVC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4038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ortest waveleng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energet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eaks O2 into O and 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 and O2 combine to form O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ongly absorbed in stratosphere by oz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ne reaches surface of Ear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6" descr="radiation_i1"/>
          <p:cNvPicPr/>
          <p:nvPr/>
        </p:nvPicPr>
        <p:blipFill>
          <a:blip r:embed="rId1"/>
          <a:stretch/>
        </p:blipFill>
        <p:spPr>
          <a:xfrm>
            <a:off x="7086600" y="228600"/>
            <a:ext cx="1143000" cy="8380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9" descr="fig1-01"/>
          <p:cNvPicPr/>
          <p:nvPr/>
        </p:nvPicPr>
        <p:blipFill>
          <a:blip r:embed="rId2"/>
          <a:stretch/>
        </p:blipFill>
        <p:spPr>
          <a:xfrm>
            <a:off x="4495680" y="1447920"/>
            <a:ext cx="449604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UVB and UV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148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VB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irly energetic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cause cell dam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rongly absorbed b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zone lay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UV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ngest waveleng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cause cell damage, penetrates into deeper layers of sk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zone does not absorb 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aches surface of Earth easi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5" descr="ozoneimg"/>
          <p:cNvPicPr/>
          <p:nvPr/>
        </p:nvPicPr>
        <p:blipFill>
          <a:blip r:embed="rId1"/>
          <a:stretch/>
        </p:blipFill>
        <p:spPr>
          <a:xfrm>
            <a:off x="228600" y="380880"/>
            <a:ext cx="861048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hy is ozone being depleted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4038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zone measured 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bson units ( DU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1 = 1 ppm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rst measured in 1920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Box 6"/>
          <p:cNvSpPr/>
          <p:nvPr/>
        </p:nvSpPr>
        <p:spPr>
          <a:xfrm>
            <a:off x="4419720" y="1523880"/>
            <a:ext cx="4267080" cy="20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FCs are the main culpr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nder molecule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d in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Picture 5" descr="04b"/>
          <p:cNvPicPr/>
          <p:nvPr/>
        </p:nvPicPr>
        <p:blipFill>
          <a:blip r:embed="rId1"/>
          <a:stretch/>
        </p:blipFill>
        <p:spPr>
          <a:xfrm>
            <a:off x="1600200" y="838080"/>
            <a:ext cx="655308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6"/>
          <p:cNvSpPr/>
          <p:nvPr/>
        </p:nvSpPr>
        <p:spPr>
          <a:xfrm>
            <a:off x="0" y="685800"/>
            <a:ext cx="2514600" cy="49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FC hit by U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lorine splits of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 ruthlessly attacks an innocent ozo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mporarily forms chlorine monoxi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roken up by a free O and the evil chlorine is free to destroy more ozone (up to 100,000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7"/>
          <p:cNvSpPr/>
          <p:nvPr/>
        </p:nvSpPr>
        <p:spPr>
          <a:xfrm>
            <a:off x="304920" y="63244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appens over and over and over again =  a catalytic chain reaction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9" descr="invader2"/>
          <p:cNvPicPr/>
          <p:nvPr/>
        </p:nvPicPr>
        <p:blipFill>
          <a:blip r:embed="rId1"/>
          <a:stretch/>
        </p:blipFill>
        <p:spPr>
          <a:xfrm>
            <a:off x="2514600" y="0"/>
            <a:ext cx="632448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Natural Ozone Formation and Destruction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8T14:29:53Z</dcterms:created>
  <dc:creator>tosborne</dc:creator>
  <dc:description/>
  <dc:language>en-US</dc:language>
  <cp:lastModifiedBy>Teri Osborne</cp:lastModifiedBy>
  <dcterms:modified xsi:type="dcterms:W3CDTF">2011-03-21T01:22:21Z</dcterms:modified>
  <cp:revision>19</cp:revision>
  <dc:subject/>
  <dc:title>Ozone Depletion</dc:title>
</cp:coreProperties>
</file>